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25.gif" ContentType="image/gif"/>
  <Override PartName="/ppt/media/image6.jpeg" ContentType="image/jpeg"/>
  <Override PartName="/ppt/media/image30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2.png" ContentType="image/png"/>
  <Override PartName="/ppt/media/image22.gif" ContentType="image/gif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9.wmf" ContentType="image/x-wmf"/>
  <Override PartName="/ppt/media/image1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703-4C0C-4A36-A67D-77CC6687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51A-1820-4B76-AF99-6D55CCAF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8F7-814D-4292-BA61-6CFFD292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D97-81C7-4659-89C8-ADA28F2C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5EBF-BCED-459F-A714-B73FF195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EBAF-146C-4E9A-8440-B109F4D4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134B-022E-40DE-9922-7BF223A7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7CDE-DE27-439D-AEF9-529309BE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B3F6-EA73-4A28-B706-8A6C5FC7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8D56-6A7B-4AFD-994B-33FF4229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57D9-5655-4D75-96A7-6A573111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C6E-3F23-4D62-9248-375DB337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E273-2C04-4DFF-ABA1-BAFD087A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BDF8-8061-400D-95CA-0B06A7BB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E58-092E-450F-8B81-D905F1F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B3B1-877A-4957-B1AB-5205252C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245C-392F-4101-BE41-D988F4AD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FF56-4513-46AA-89FA-09E422CA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2732-4FF5-4E24-B792-3F61D959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D1CF-3E34-49DD-AB72-07F7571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F928-9EE7-4B76-8D41-C7D18DEA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D4F9-B75C-48FA-990D-4D5DC4CC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961-F381-4EA9-8CA1-9259A5D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021A-0480-4E56-9CDC-7CA48AB6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D02D-92F4-42DB-8E78-71D7B7F3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53DB-744F-4CB3-AC84-31EFA4F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11DA-62D0-4D57-9254-177A7D5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743C-2E9F-4D24-BB3C-1688FAEE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E5EC-8108-41C8-941E-E5D97507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3701-4328-4F10-9363-9BC5997C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357C-11F1-4477-9FD0-A74DF67C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A38B-1D6D-4E55-A65D-BFF2954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C33B9-BE5A-4688-815C-5496A64F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DA2-E19A-44A0-A0EE-9F1C3F26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7D2F-161D-4149-9942-1D2B79B4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4F33E-6FC0-4835-97F5-57F7A661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A3F2-23BD-41C1-B49B-81CFA2B1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4769-38F9-4DF2-88E4-BA835B7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6373-BA86-4C36-B4C9-8E2D253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1E01-9F72-4BFA-A7C7-B0C63B7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6956-283C-47F6-A4F1-F2A8397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044C-6E33-4233-9096-B7B9C7AF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2C90D-73F2-4A1D-A2D4-53EA43C4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40BD4-C23A-4155-9608-594DB1C2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4AC-B9BD-415C-BD0C-56DDB438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30382-5A77-43D4-B799-36814207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4CD0-C633-4EB5-ABD1-ABCF38B3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B39AF-1FE4-4753-83D0-708D36F7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D94CA-1094-4A6C-ACF1-DBBC6B87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5F52-40BC-420B-BCE8-F491521C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951AF-6CD4-4B12-9421-E04EED1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D1C6E-84C6-4A48-90FD-B2F2FB75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FCAA8-6C3D-417A-A395-363B905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A21D8-8D0D-4F35-8784-BEA154EF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0FF1-DE45-4119-8D1D-477510B2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88F-64E1-43E7-97B3-2D04F254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4FEE-DACB-4ACA-90BA-DAEF369B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308E8-F176-468D-BF86-02A5AA97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C34D4-173D-43A2-B0ED-CACB1ACC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479ED-6E9E-4178-9E73-49F46B5C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962A3-E5D6-4729-9D89-778B7318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E1E7B-A477-49F3-AA10-323BB528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2B9C7-20A2-4C02-AEFD-753986BD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8AF13-C047-41C9-830A-A03FE6F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5E558-DDA3-402A-85C0-EFEA1E9D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BF73A-F0AD-4369-A574-8FE64B28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B3F-A8E4-4168-A0D4-6E041297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EC11A-0342-4C0A-9C11-774F3B39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95674-205E-4758-8AE0-010F42E2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8992-996A-4D45-8CE5-0F9D291E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819-A2EB-4339-B095-A33B604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7A5-6963-4644-93AE-C5AE54C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1.jpeg"/><Relationship Id="rId7" Type="http://schemas.openxmlformats.org/officeDocument/2006/relationships/image" Target="../media/image14.gif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3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ca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477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43000" y="68400"/>
            <a:ext cx="8001000" cy="4651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134040" y="646272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6343560"/>
            <a:ext cx="9143640" cy="514440"/>
            <a:chOff x="0" y="6343560"/>
            <a:chExt cx="9143640" cy="514440"/>
          </a:xfrm>
        </p:grpSpPr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0" y="6343560"/>
              <a:ext cx="12193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6"/>
            <a:stretch/>
          </p:blipFill>
          <p:spPr>
            <a:xfrm flipH="1">
              <a:off x="1218960" y="6343560"/>
              <a:ext cx="7924680" cy="5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466D-E2A7-4684-B8FF-9ED4928276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0" y="0"/>
            <a:ext cx="1219320" cy="1338120"/>
            <a:chOff x="0" y="0"/>
            <a:chExt cx="1219320" cy="1338120"/>
          </a:xfrm>
        </p:grpSpPr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533520"/>
              <a:ext cx="12193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1219320" cy="565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9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385128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736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733920" y="0"/>
            <a:ext cx="541008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809880" y="6400800"/>
            <a:ext cx="533412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0B1C-405A-42E2-98F1-1E3991F288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5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14400" y="0"/>
            <a:ext cx="15242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-14400" y="5029200"/>
            <a:ext cx="701064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6996240" cy="1973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7848720" y="2666880"/>
            <a:ext cx="1028520" cy="1257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4400" y="3338640"/>
            <a:ext cx="1485720" cy="1714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F31-9217-4A66-B64B-C6AFE1C5B9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5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34320" cy="789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6934320" cy="2468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80496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810480" y="0"/>
            <a:ext cx="2361960" cy="6872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0" y="6324480"/>
            <a:ext cx="7000920" cy="533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8289-CE60-449D-BAC5-06E097313A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9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34040" y="640080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235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0" y="1219320"/>
            <a:ext cx="960480" cy="3246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7361280" y="5562720"/>
            <a:ext cx="1782720" cy="129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0" y="4419720"/>
            <a:ext cx="957240" cy="2438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914400" y="5562720"/>
            <a:ext cx="6477120" cy="1295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3200400" y="0"/>
            <a:ext cx="5943600" cy="1233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E56C-2CE4-42F3-BB76-3AA6DE8321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8B53-5D35-41B6-B9BB-9250A05FE9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195640" y="1844640"/>
            <a:ext cx="165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419640" y="2781360"/>
            <a:ext cx="374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7.1 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圆的基本概念和性质（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）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4360" y="54936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1916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请用圆规和直尺画出一个半径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cm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圆，并在这个圆上画出长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cm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3cm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两条弦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79280" y="189000"/>
            <a:ext cx="2087640" cy="792000"/>
            <a:chOff x="179280" y="189000"/>
            <a:chExt cx="2087640" cy="792000"/>
          </a:xfrm>
        </p:grpSpPr>
        <p:sp>
          <p:nvSpPr>
            <p:cNvPr id="459" name=""/>
            <p:cNvSpPr/>
            <p:nvPr/>
          </p:nvSpPr>
          <p:spPr>
            <a:xfrm>
              <a:off x="179280" y="189000"/>
              <a:ext cx="2087640" cy="792000"/>
            </a:xfrm>
            <a:prstGeom prst="bevel">
              <a:avLst>
                <a:gd name="adj" fmla="val 12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537840" y="299880"/>
              <a:ext cx="136872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50000"/>
                      </a:srgbClr>
                    </a:outerShdw>
                  </a:effectLst>
                  <a:latin typeface="华文行楷"/>
                </a:rPr>
                <a:t>练  习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755640" y="10843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在正方形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对角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说明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同一个圆上，并画出这个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08000" y="44280"/>
            <a:ext cx="2088720" cy="792360"/>
            <a:chOff x="108000" y="44280"/>
            <a:chExt cx="2088720" cy="792360"/>
          </a:xfrm>
        </p:grpSpPr>
        <p:sp>
          <p:nvSpPr>
            <p:cNvPr id="463" name=""/>
            <p:cNvSpPr/>
            <p:nvPr/>
          </p:nvSpPr>
          <p:spPr>
            <a:xfrm>
              <a:off x="108000" y="44280"/>
              <a:ext cx="2088720" cy="792360"/>
            </a:xfrm>
            <a:prstGeom prst="bevel">
              <a:avLst>
                <a:gd name="adj" fmla="val 12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466560" y="155520"/>
              <a:ext cx="13694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50000"/>
                      </a:srgbClr>
                    </a:outerShdw>
                  </a:effectLst>
                  <a:latin typeface="华文行楷"/>
                </a:rPr>
                <a:t>练  习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702160" y="2565360"/>
            <a:ext cx="3605760" cy="3471840"/>
            <a:chOff x="2702160" y="2565360"/>
            <a:chExt cx="3605760" cy="3471840"/>
          </a:xfrm>
        </p:grpSpPr>
        <p:sp>
          <p:nvSpPr>
            <p:cNvPr id="466" name=""/>
            <p:cNvSpPr/>
            <p:nvPr/>
          </p:nvSpPr>
          <p:spPr>
            <a:xfrm>
              <a:off x="3132360" y="2924280"/>
              <a:ext cx="2663640" cy="2663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32360" y="2924280"/>
              <a:ext cx="2663640" cy="266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132360" y="2924280"/>
              <a:ext cx="2663640" cy="266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02160" y="2565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73800" y="5445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26520" y="5516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71240" y="2637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86880" y="4365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556000" y="2349360"/>
            <a:ext cx="3814560" cy="381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2764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2592720" cy="1622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395280" y="404640"/>
            <a:ext cx="2786040" cy="828720"/>
            <a:chOff x="395280" y="404640"/>
            <a:chExt cx="2786040" cy="828720"/>
          </a:xfrm>
        </p:grpSpPr>
        <p:sp>
          <p:nvSpPr>
            <p:cNvPr id="289" name=""/>
            <p:cNvSpPr/>
            <p:nvPr/>
          </p:nvSpPr>
          <p:spPr>
            <a:xfrm>
              <a:off x="1092240" y="404640"/>
              <a:ext cx="2089080" cy="6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395280" y="471240"/>
              <a:ext cx="5540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 txBox="1"/>
            <p:nvPr/>
          </p:nvSpPr>
          <p:spPr>
            <a:xfrm>
              <a:off x="1200240" y="512640"/>
              <a:ext cx="1873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观察与思考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003640" y="2421000"/>
            <a:ext cx="2952720" cy="1231200"/>
            <a:chOff x="5003640" y="2421000"/>
            <a:chExt cx="2952720" cy="1231200"/>
          </a:xfrm>
        </p:grpSpPr>
        <p:sp>
          <p:nvSpPr>
            <p:cNvPr id="293" name=""/>
            <p:cNvSpPr/>
            <p:nvPr/>
          </p:nvSpPr>
          <p:spPr>
            <a:xfrm>
              <a:off x="5003640" y="2432880"/>
              <a:ext cx="1206000" cy="120528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54840" y="2584080"/>
              <a:ext cx="903240" cy="902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6280" y="2945160"/>
              <a:ext cx="180720" cy="180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71200" y="2643840"/>
              <a:ext cx="785160" cy="78444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74320" y="2945160"/>
              <a:ext cx="180720" cy="180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66040" y="2421000"/>
              <a:ext cx="1988640" cy="24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666040" y="3412080"/>
              <a:ext cx="2049480" cy="24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837800" y="14796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下面图片，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12200" y="3933720"/>
            <a:ext cx="47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行车轮和皮带传送轮为什么都做成圆形的？和大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流你的想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59720" y="5013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把自行车轮做成其他的形状，如三角形或正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认为可以吗？说说你的看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55640" y="4797360"/>
            <a:ext cx="820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把车轮做成圆形，车轮上各点到车轮中心（圆心）的距离都等于车轮的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径，当车轮在平面上滚动时，车轮中心与平面的距离保持不变，因此，当车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平坦的路上行驶时，坐车的人会感觉到非常平稳，这也是车轮都做成圆形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学道理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655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798480" y="4163760"/>
            <a:ext cx="7378560" cy="100080"/>
            <a:chOff x="798480" y="4163760"/>
            <a:chExt cx="7378560" cy="100080"/>
          </a:xfrm>
        </p:grpSpPr>
        <p:grpSp>
          <p:nvGrpSpPr>
            <p:cNvPr id="306" name=""/>
            <p:cNvGrpSpPr/>
            <p:nvPr/>
          </p:nvGrpSpPr>
          <p:grpSpPr>
            <a:xfrm>
              <a:off x="798480" y="4163760"/>
              <a:ext cx="1257120" cy="100080"/>
              <a:chOff x="798480" y="4163760"/>
              <a:chExt cx="1257120" cy="100080"/>
            </a:xfrm>
          </p:grpSpPr>
          <p:sp>
            <p:nvSpPr>
              <p:cNvPr id="307" name="a1line1"/>
              <p:cNvSpPr/>
              <p:nvPr/>
            </p:nvSpPr>
            <p:spPr>
              <a:xfrm flipH="1">
                <a:off x="798480" y="4163760"/>
                <a:ext cx="125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1line2"/>
              <p:cNvSpPr/>
              <p:nvPr/>
            </p:nvSpPr>
            <p:spPr>
              <a:xfrm flipH="1">
                <a:off x="1941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1line3"/>
              <p:cNvSpPr/>
              <p:nvPr/>
            </p:nvSpPr>
            <p:spPr>
              <a:xfrm flipH="1">
                <a:off x="1827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1line4"/>
              <p:cNvSpPr/>
              <p:nvPr/>
            </p:nvSpPr>
            <p:spPr>
              <a:xfrm flipH="1">
                <a:off x="17132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1line5"/>
              <p:cNvSpPr/>
              <p:nvPr/>
            </p:nvSpPr>
            <p:spPr>
              <a:xfrm flipH="1">
                <a:off x="15987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1line6"/>
              <p:cNvSpPr/>
              <p:nvPr/>
            </p:nvSpPr>
            <p:spPr>
              <a:xfrm flipH="1">
                <a:off x="14842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1line7"/>
              <p:cNvSpPr/>
              <p:nvPr/>
            </p:nvSpPr>
            <p:spPr>
              <a:xfrm flipH="1">
                <a:off x="13701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1line8"/>
              <p:cNvSpPr/>
              <p:nvPr/>
            </p:nvSpPr>
            <p:spPr>
              <a:xfrm flipH="1">
                <a:off x="12560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1line9"/>
              <p:cNvSpPr/>
              <p:nvPr/>
            </p:nvSpPr>
            <p:spPr>
              <a:xfrm flipH="1">
                <a:off x="11415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1line10"/>
              <p:cNvSpPr/>
              <p:nvPr/>
            </p:nvSpPr>
            <p:spPr>
              <a:xfrm flipH="1">
                <a:off x="1027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1line11"/>
              <p:cNvSpPr/>
              <p:nvPr/>
            </p:nvSpPr>
            <p:spPr>
              <a:xfrm flipH="1">
                <a:off x="9129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1line12"/>
              <p:cNvSpPr/>
              <p:nvPr/>
            </p:nvSpPr>
            <p:spPr>
              <a:xfrm flipH="1">
                <a:off x="7988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052000" y="4163760"/>
              <a:ext cx="1257480" cy="100080"/>
              <a:chOff x="2052000" y="4163760"/>
              <a:chExt cx="1257480" cy="100080"/>
            </a:xfrm>
          </p:grpSpPr>
          <p:sp>
            <p:nvSpPr>
              <p:cNvPr id="320" name="a1line1"/>
              <p:cNvSpPr/>
              <p:nvPr/>
            </p:nvSpPr>
            <p:spPr>
              <a:xfrm flipH="1">
                <a:off x="2052000" y="416376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1line2"/>
              <p:cNvSpPr/>
              <p:nvPr/>
            </p:nvSpPr>
            <p:spPr>
              <a:xfrm flipH="1">
                <a:off x="3195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1line3"/>
              <p:cNvSpPr/>
              <p:nvPr/>
            </p:nvSpPr>
            <p:spPr>
              <a:xfrm flipH="1">
                <a:off x="30812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1line4"/>
              <p:cNvSpPr/>
              <p:nvPr/>
            </p:nvSpPr>
            <p:spPr>
              <a:xfrm flipH="1">
                <a:off x="29667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1line5"/>
              <p:cNvSpPr/>
              <p:nvPr/>
            </p:nvSpPr>
            <p:spPr>
              <a:xfrm flipH="1">
                <a:off x="28526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1line6"/>
              <p:cNvSpPr/>
              <p:nvPr/>
            </p:nvSpPr>
            <p:spPr>
              <a:xfrm flipH="1">
                <a:off x="27381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1line7"/>
              <p:cNvSpPr/>
              <p:nvPr/>
            </p:nvSpPr>
            <p:spPr>
              <a:xfrm flipH="1">
                <a:off x="26236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1line8"/>
              <p:cNvSpPr/>
              <p:nvPr/>
            </p:nvSpPr>
            <p:spPr>
              <a:xfrm flipH="1">
                <a:off x="25095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1line9"/>
              <p:cNvSpPr/>
              <p:nvPr/>
            </p:nvSpPr>
            <p:spPr>
              <a:xfrm flipH="1">
                <a:off x="2395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1line10"/>
              <p:cNvSpPr/>
              <p:nvPr/>
            </p:nvSpPr>
            <p:spPr>
              <a:xfrm flipH="1">
                <a:off x="22809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1line11"/>
              <p:cNvSpPr/>
              <p:nvPr/>
            </p:nvSpPr>
            <p:spPr>
              <a:xfrm flipH="1">
                <a:off x="2166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1line12"/>
              <p:cNvSpPr/>
              <p:nvPr/>
            </p:nvSpPr>
            <p:spPr>
              <a:xfrm flipH="1">
                <a:off x="2052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303000" y="4163760"/>
              <a:ext cx="1257480" cy="100080"/>
              <a:chOff x="3303000" y="4163760"/>
              <a:chExt cx="1257480" cy="100080"/>
            </a:xfrm>
          </p:grpSpPr>
          <p:sp>
            <p:nvSpPr>
              <p:cNvPr id="333" name="a1line1"/>
              <p:cNvSpPr/>
              <p:nvPr/>
            </p:nvSpPr>
            <p:spPr>
              <a:xfrm flipH="1">
                <a:off x="3303000" y="416376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1line2"/>
              <p:cNvSpPr/>
              <p:nvPr/>
            </p:nvSpPr>
            <p:spPr>
              <a:xfrm flipH="1">
                <a:off x="4446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1line3"/>
              <p:cNvSpPr/>
              <p:nvPr/>
            </p:nvSpPr>
            <p:spPr>
              <a:xfrm flipH="1">
                <a:off x="43322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1line4"/>
              <p:cNvSpPr/>
              <p:nvPr/>
            </p:nvSpPr>
            <p:spPr>
              <a:xfrm flipH="1">
                <a:off x="42177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1line5"/>
              <p:cNvSpPr/>
              <p:nvPr/>
            </p:nvSpPr>
            <p:spPr>
              <a:xfrm flipH="1">
                <a:off x="41036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1line6"/>
              <p:cNvSpPr/>
              <p:nvPr/>
            </p:nvSpPr>
            <p:spPr>
              <a:xfrm flipH="1">
                <a:off x="39891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1line7"/>
              <p:cNvSpPr/>
              <p:nvPr/>
            </p:nvSpPr>
            <p:spPr>
              <a:xfrm flipH="1">
                <a:off x="38746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1line8"/>
              <p:cNvSpPr/>
              <p:nvPr/>
            </p:nvSpPr>
            <p:spPr>
              <a:xfrm flipH="1">
                <a:off x="37605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1line9"/>
              <p:cNvSpPr/>
              <p:nvPr/>
            </p:nvSpPr>
            <p:spPr>
              <a:xfrm flipH="1">
                <a:off x="3646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1line10"/>
              <p:cNvSpPr/>
              <p:nvPr/>
            </p:nvSpPr>
            <p:spPr>
              <a:xfrm flipH="1">
                <a:off x="35319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1line11"/>
              <p:cNvSpPr/>
              <p:nvPr/>
            </p:nvSpPr>
            <p:spPr>
              <a:xfrm flipH="1">
                <a:off x="3417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1line12"/>
              <p:cNvSpPr/>
              <p:nvPr/>
            </p:nvSpPr>
            <p:spPr>
              <a:xfrm flipH="1">
                <a:off x="3303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4542840" y="4163760"/>
              <a:ext cx="1257480" cy="100080"/>
              <a:chOff x="4542840" y="4163760"/>
              <a:chExt cx="1257480" cy="100080"/>
            </a:xfrm>
          </p:grpSpPr>
          <p:sp>
            <p:nvSpPr>
              <p:cNvPr id="346" name="a1line1"/>
              <p:cNvSpPr/>
              <p:nvPr/>
            </p:nvSpPr>
            <p:spPr>
              <a:xfrm flipH="1">
                <a:off x="4542840" y="416376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1line2"/>
              <p:cNvSpPr/>
              <p:nvPr/>
            </p:nvSpPr>
            <p:spPr>
              <a:xfrm flipH="1">
                <a:off x="5686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1line3"/>
              <p:cNvSpPr/>
              <p:nvPr/>
            </p:nvSpPr>
            <p:spPr>
              <a:xfrm flipH="1">
                <a:off x="5572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1line4"/>
              <p:cNvSpPr/>
              <p:nvPr/>
            </p:nvSpPr>
            <p:spPr>
              <a:xfrm flipH="1">
                <a:off x="54576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1line5"/>
              <p:cNvSpPr/>
              <p:nvPr/>
            </p:nvSpPr>
            <p:spPr>
              <a:xfrm flipH="1">
                <a:off x="5343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1line6"/>
              <p:cNvSpPr/>
              <p:nvPr/>
            </p:nvSpPr>
            <p:spPr>
              <a:xfrm flipH="1">
                <a:off x="52290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1line7"/>
              <p:cNvSpPr/>
              <p:nvPr/>
            </p:nvSpPr>
            <p:spPr>
              <a:xfrm flipH="1">
                <a:off x="51145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1line8"/>
              <p:cNvSpPr/>
              <p:nvPr/>
            </p:nvSpPr>
            <p:spPr>
              <a:xfrm flipH="1">
                <a:off x="50004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1line9"/>
              <p:cNvSpPr/>
              <p:nvPr/>
            </p:nvSpPr>
            <p:spPr>
              <a:xfrm flipH="1">
                <a:off x="48859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1line10"/>
              <p:cNvSpPr/>
              <p:nvPr/>
            </p:nvSpPr>
            <p:spPr>
              <a:xfrm flipH="1">
                <a:off x="47718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1line11"/>
              <p:cNvSpPr/>
              <p:nvPr/>
            </p:nvSpPr>
            <p:spPr>
              <a:xfrm flipH="1">
                <a:off x="46573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1line12"/>
              <p:cNvSpPr/>
              <p:nvPr/>
            </p:nvSpPr>
            <p:spPr>
              <a:xfrm flipH="1">
                <a:off x="4543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766840" y="4163760"/>
              <a:ext cx="1257480" cy="100080"/>
              <a:chOff x="5766840" y="4163760"/>
              <a:chExt cx="1257480" cy="100080"/>
            </a:xfrm>
          </p:grpSpPr>
          <p:sp>
            <p:nvSpPr>
              <p:cNvPr id="359" name="a1line1"/>
              <p:cNvSpPr/>
              <p:nvPr/>
            </p:nvSpPr>
            <p:spPr>
              <a:xfrm flipH="1">
                <a:off x="5766840" y="416376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1line2"/>
              <p:cNvSpPr/>
              <p:nvPr/>
            </p:nvSpPr>
            <p:spPr>
              <a:xfrm flipH="1">
                <a:off x="6910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1line3"/>
              <p:cNvSpPr/>
              <p:nvPr/>
            </p:nvSpPr>
            <p:spPr>
              <a:xfrm flipH="1">
                <a:off x="6796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1line4"/>
              <p:cNvSpPr/>
              <p:nvPr/>
            </p:nvSpPr>
            <p:spPr>
              <a:xfrm flipH="1">
                <a:off x="66816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1line5"/>
              <p:cNvSpPr/>
              <p:nvPr/>
            </p:nvSpPr>
            <p:spPr>
              <a:xfrm flipH="1">
                <a:off x="6567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1line6"/>
              <p:cNvSpPr/>
              <p:nvPr/>
            </p:nvSpPr>
            <p:spPr>
              <a:xfrm flipH="1">
                <a:off x="64530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1line7"/>
              <p:cNvSpPr/>
              <p:nvPr/>
            </p:nvSpPr>
            <p:spPr>
              <a:xfrm flipH="1">
                <a:off x="63385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1line8"/>
              <p:cNvSpPr/>
              <p:nvPr/>
            </p:nvSpPr>
            <p:spPr>
              <a:xfrm flipH="1">
                <a:off x="62244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a1line9"/>
              <p:cNvSpPr/>
              <p:nvPr/>
            </p:nvSpPr>
            <p:spPr>
              <a:xfrm flipH="1">
                <a:off x="61099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1line10"/>
              <p:cNvSpPr/>
              <p:nvPr/>
            </p:nvSpPr>
            <p:spPr>
              <a:xfrm flipH="1">
                <a:off x="59958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1line11"/>
              <p:cNvSpPr/>
              <p:nvPr/>
            </p:nvSpPr>
            <p:spPr>
              <a:xfrm flipH="1">
                <a:off x="58813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1line12"/>
              <p:cNvSpPr/>
              <p:nvPr/>
            </p:nvSpPr>
            <p:spPr>
              <a:xfrm flipH="1">
                <a:off x="5767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919920" y="4163760"/>
              <a:ext cx="1257120" cy="100080"/>
              <a:chOff x="6919920" y="4163760"/>
              <a:chExt cx="1257120" cy="100080"/>
            </a:xfrm>
          </p:grpSpPr>
          <p:sp>
            <p:nvSpPr>
              <p:cNvPr id="372" name="a1line1"/>
              <p:cNvSpPr/>
              <p:nvPr/>
            </p:nvSpPr>
            <p:spPr>
              <a:xfrm flipH="1">
                <a:off x="6919920" y="4163760"/>
                <a:ext cx="125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1line2"/>
              <p:cNvSpPr/>
              <p:nvPr/>
            </p:nvSpPr>
            <p:spPr>
              <a:xfrm flipH="1">
                <a:off x="80629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1line3"/>
              <p:cNvSpPr/>
              <p:nvPr/>
            </p:nvSpPr>
            <p:spPr>
              <a:xfrm flipH="1">
                <a:off x="79488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1line4"/>
              <p:cNvSpPr/>
              <p:nvPr/>
            </p:nvSpPr>
            <p:spPr>
              <a:xfrm flipH="1">
                <a:off x="78346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1line5"/>
              <p:cNvSpPr/>
              <p:nvPr/>
            </p:nvSpPr>
            <p:spPr>
              <a:xfrm flipH="1">
                <a:off x="7720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1line6"/>
              <p:cNvSpPr/>
              <p:nvPr/>
            </p:nvSpPr>
            <p:spPr>
              <a:xfrm flipH="1">
                <a:off x="76057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1line7"/>
              <p:cNvSpPr/>
              <p:nvPr/>
            </p:nvSpPr>
            <p:spPr>
              <a:xfrm flipH="1">
                <a:off x="74916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1line8"/>
              <p:cNvSpPr/>
              <p:nvPr/>
            </p:nvSpPr>
            <p:spPr>
              <a:xfrm flipH="1">
                <a:off x="7377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1line9"/>
              <p:cNvSpPr/>
              <p:nvPr/>
            </p:nvSpPr>
            <p:spPr>
              <a:xfrm flipH="1">
                <a:off x="72630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1line10"/>
              <p:cNvSpPr/>
              <p:nvPr/>
            </p:nvSpPr>
            <p:spPr>
              <a:xfrm flipH="1">
                <a:off x="71485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1line11"/>
              <p:cNvSpPr/>
              <p:nvPr/>
            </p:nvSpPr>
            <p:spPr>
              <a:xfrm flipH="1">
                <a:off x="70344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1line12"/>
              <p:cNvSpPr/>
              <p:nvPr/>
            </p:nvSpPr>
            <p:spPr>
              <a:xfrm flipH="1">
                <a:off x="69202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"/>
          <p:cNvSpPr txBox="1"/>
          <p:nvPr/>
        </p:nvSpPr>
        <p:spPr>
          <a:xfrm>
            <a:off x="1476360" y="189000"/>
            <a:ext cx="374508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为什么车轮是圆的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6 L 0.55573 -3.7037E-006 E">
                                      <p:cBhvr>
                                        <p:cTn id="29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5940360" y="2494080"/>
            <a:ext cx="0" cy="1726920"/>
            <a:chOff x="5940360" y="2494080"/>
            <a:chExt cx="0" cy="1726920"/>
          </a:xfrm>
        </p:grpSpPr>
        <p:sp>
          <p:nvSpPr>
            <p:cNvPr id="386" name=""/>
            <p:cNvSpPr/>
            <p:nvPr/>
          </p:nvSpPr>
          <p:spPr>
            <a:xfrm>
              <a:off x="5940360" y="2494080"/>
              <a:ext cx="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0360" y="3357720"/>
              <a:ext cx="0" cy="86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39640" y="1052640"/>
            <a:ext cx="77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在一个平面上到定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离等于定长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）的所有点组成的图形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76720" y="2492280"/>
            <a:ext cx="172872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1200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944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9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42440" y="2846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16000" y="39276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叫做圆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96080" y="3328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4797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圆心的圆，记作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⊙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读作“圆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020000" y="4005360"/>
            <a:ext cx="1873080" cy="2663640"/>
            <a:chOff x="7020000" y="4005360"/>
            <a:chExt cx="1873080" cy="2663640"/>
          </a:xfrm>
        </p:grpSpPr>
        <p:sp>
          <p:nvSpPr>
            <p:cNvPr id="398" name=""/>
            <p:cNvSpPr/>
            <p:nvPr/>
          </p:nvSpPr>
          <p:spPr>
            <a:xfrm>
              <a:off x="7020000" y="4005360"/>
              <a:ext cx="1873080" cy="26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93080" y="4292640"/>
              <a:ext cx="172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ff"/>
                  </a:solidFill>
                  <a:latin typeface="Arial"/>
                </a:rPr>
                <a:t>我国古人很早对圆就有这样的认识了，战国时的《墨经》就有“圆，一中同长也”的记载．它的意思是圆上各点到圆心的距离都等于半径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85080" y="4106880"/>
              <a:ext cx="112680" cy="112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1.04046E-006 C 0.05538 -1.04046E-006 0.1092 0.06913 0.1092 0.15422 C 0.1092 0.23931 0.05538 0.3089 -0.01059 0.3089 C -0.07656 0.3089 -0.13004 0.23931 -0.13004 0.15422 C -0.13004 0.06913 -0.07656 -1.04046E-006 -0.01059 -1.04046E-006 Z">
                                      <p:cBhvr>
                                        <p:cTn id="47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63640" y="54936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4000" y="476280"/>
            <a:ext cx="2858400" cy="930240"/>
            <a:chOff x="324000" y="476280"/>
            <a:chExt cx="2858400" cy="930240"/>
          </a:xfrm>
        </p:grpSpPr>
        <p:sp>
          <p:nvSpPr>
            <p:cNvPr id="403" name=""/>
            <p:cNvSpPr/>
            <p:nvPr/>
          </p:nvSpPr>
          <p:spPr>
            <a:xfrm>
              <a:off x="1093320" y="476280"/>
              <a:ext cx="2089080" cy="6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1201320" y="584280"/>
              <a:ext cx="1873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一起探究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324000" y="476280"/>
              <a:ext cx="65664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/>
          <p:cNvSpPr/>
          <p:nvPr/>
        </p:nvSpPr>
        <p:spPr>
          <a:xfrm>
            <a:off x="2588400" y="191628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张半透明的纸上以为圆心画一个圆，将这张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片沿过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直线对折，你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32560" y="3790800"/>
            <a:ext cx="35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一个圆绕圆心旋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，是否与原图形重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能说明什么事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755640" y="2565360"/>
            <a:ext cx="7777080" cy="1440000"/>
          </a:xfrm>
          <a:prstGeom prst="rect">
            <a:avLst/>
          </a:prstGeom>
          <a:solidFill>
            <a:srgbClr val="b5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6480" y="24210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圆是轴对称图形，过圆心的每一条直线都是它的对称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圆也是中心对称图形，圆心是它的对称中心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00" y="2565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圆心的弦（如图中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35280" y="3716280"/>
            <a:ext cx="172872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888360" y="3984480"/>
            <a:ext cx="1222560" cy="12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9128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62200" y="515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908520" y="5055840"/>
            <a:ext cx="1296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1964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731960"/>
            <a:ext cx="56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结圆上任意两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线段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57880" y="455292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200" y="40464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与圆有关的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413000"/>
            <a:ext cx="1368360" cy="1295280"/>
          </a:xfrm>
          <a:prstGeom prst="rightArrow">
            <a:avLst>
              <a:gd name="adj1" fmla="val 50000"/>
              <a:gd name="adj2" fmla="val 26411"/>
            </a:avLst>
          </a:prstGeom>
          <a:gradFill rotWithShape="0">
            <a:gsLst>
              <a:gs pos="0">
                <a:srgbClr val="00ff00"/>
              </a:gs>
              <a:gs pos="100000">
                <a:srgbClr val="ddf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84360" y="1628640"/>
            <a:ext cx="79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上任意两点间的部分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圆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简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端点的弧记作          ，读作“圆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“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2124000" y="1989000"/>
          <a:ext cx="43200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989000"/>
                    <a:ext cx="4320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684360" y="2708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的任意一条直径的两个端点把圆分成两条弧，每一条弧都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半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64000" y="4076640"/>
            <a:ext cx="172872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817080" y="4344840"/>
            <a:ext cx="1222560" cy="12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06872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9092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36880" y="5416200"/>
            <a:ext cx="1297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48360" y="40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16Arc 211"/>
          <p:cNvSpPr/>
          <p:nvPr/>
        </p:nvSpPr>
        <p:spPr>
          <a:xfrm rot="18963000">
            <a:off x="3572280" y="4061160"/>
            <a:ext cx="1736280" cy="178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2"/>
                </a:moveTo>
                <a:arcTo wR="10800" hR="10800" stAng="-10772052" swAng="10772052"/>
                <a:lnTo>
                  <a:pt x="10800" y="10800"/>
                </a:lnTo>
                <a:close/>
              </a:path>
              <a:path fill="none" w="21600" h="21600">
                <a:moveTo>
                  <a:pt x="0" y="10712"/>
                </a:moveTo>
                <a:arcTo wR="10800" hR="10800" stAng="-10772052" swAng="10772052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86240" y="4913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26920" y="174600"/>
            <a:ext cx="1368720" cy="1295280"/>
          </a:xfrm>
          <a:prstGeom prst="rightArrow">
            <a:avLst>
              <a:gd name="adj1" fmla="val 50000"/>
              <a:gd name="adj2" fmla="val 26417"/>
            </a:avLst>
          </a:prstGeom>
          <a:gradFill rotWithShape="0">
            <a:gsLst>
              <a:gs pos="0">
                <a:srgbClr val="00ff00"/>
              </a:gs>
              <a:gs pos="100000">
                <a:srgbClr val="ddf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900000" y="2182680"/>
            <a:ext cx="7488360" cy="455760"/>
            <a:chOff x="900000" y="2182680"/>
            <a:chExt cx="7488360" cy="455760"/>
          </a:xfrm>
        </p:grpSpPr>
        <p:sp>
          <p:nvSpPr>
            <p:cNvPr id="437" name=""/>
            <p:cNvSpPr/>
            <p:nvPr/>
          </p:nvSpPr>
          <p:spPr>
            <a:xfrm>
              <a:off x="900000" y="223956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大于半圆的弧（用三点表示，如图中的           ）叫做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优弧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5437080" y="2182680"/>
            <a:ext cx="647640" cy="41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37080" y="2182680"/>
                      <a:ext cx="64764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0" name=""/>
          <p:cNvGrpSpPr/>
          <p:nvPr/>
        </p:nvGrpSpPr>
        <p:grpSpPr>
          <a:xfrm>
            <a:off x="900000" y="1557360"/>
            <a:ext cx="6696000" cy="503280"/>
            <a:chOff x="900000" y="1557360"/>
            <a:chExt cx="6696000" cy="503280"/>
          </a:xfrm>
        </p:grpSpPr>
        <p:sp>
          <p:nvSpPr>
            <p:cNvPr id="441" name=""/>
            <p:cNvSpPr/>
            <p:nvPr/>
          </p:nvSpPr>
          <p:spPr>
            <a:xfrm>
              <a:off x="900000" y="1628640"/>
              <a:ext cx="66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小于半圆的弧（如图中的　　　　）叫做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劣弧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987720" y="1557360"/>
            <a:ext cx="585720" cy="50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87720" y="1557360"/>
                      <a:ext cx="58572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4" name=""/>
          <p:cNvSpPr/>
          <p:nvPr/>
        </p:nvSpPr>
        <p:spPr>
          <a:xfrm>
            <a:off x="3564000" y="3355920"/>
            <a:ext cx="172872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817080" y="3627360"/>
            <a:ext cx="1222560" cy="12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1964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68720" y="3863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90920" y="4795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836880" y="4698720"/>
            <a:ext cx="1297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4836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m16Arc 211"/>
          <p:cNvSpPr/>
          <p:nvPr/>
        </p:nvSpPr>
        <p:spPr>
          <a:xfrm rot="18756000">
            <a:off x="3574800" y="3350880"/>
            <a:ext cx="1725120" cy="175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2"/>
                </a:moveTo>
                <a:arcTo wR="10800" hR="10800" stAng="-10772052" swAng="15540699"/>
                <a:lnTo>
                  <a:pt x="10800" y="10800"/>
                </a:lnTo>
                <a:close/>
              </a:path>
              <a:path fill="none" w="21600" h="21600">
                <a:moveTo>
                  <a:pt x="0" y="10712"/>
                </a:moveTo>
                <a:arcTo wR="10800" hR="10800" stAng="-10772052" swAng="15540699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m16Arc 211"/>
          <p:cNvSpPr/>
          <p:nvPr/>
        </p:nvSpPr>
        <p:spPr>
          <a:xfrm rot="10498200">
            <a:off x="3555720" y="3339000"/>
            <a:ext cx="1725480" cy="175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71" y="4048"/>
                </a:moveTo>
                <a:arcTo wR="10800" hR="10800" stAng="-8478122" swAng="5916529"/>
                <a:lnTo>
                  <a:pt x="10800" y="10800"/>
                </a:lnTo>
                <a:close/>
              </a:path>
              <a:path fill="none" w="21600" h="21600">
                <a:moveTo>
                  <a:pt x="2371" y="4048"/>
                </a:moveTo>
                <a:arcTo wR="10800" hR="10800" stAng="-8478122" swAng="5916529"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86240" y="42069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0"/>
            <a:ext cx="1512720" cy="1295280"/>
          </a:xfrm>
          <a:prstGeom prst="rightArrow">
            <a:avLst>
              <a:gd name="adj1" fmla="val 50000"/>
              <a:gd name="adj2" fmla="val 29197"/>
            </a:avLst>
          </a:prstGeom>
          <a:gradFill rotWithShape="0">
            <a:gsLst>
              <a:gs pos="0">
                <a:srgbClr val="00ff00"/>
              </a:gs>
              <a:gs pos="100000">
                <a:srgbClr val="ddf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劣弧与优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19680" y="55166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够重合的两个圆叫做等圆，能够重合的两条弧叫做等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半径相等的两个圆是等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07:35:24Z</dcterms:created>
  <dc:creator/>
  <dc:description/>
  <dc:language>en-US</dc:language>
  <cp:lastModifiedBy>微软用户</cp:lastModifiedBy>
  <dcterms:modified xsi:type="dcterms:W3CDTF">2011-06-30T04:24:06Z</dcterms:modified>
  <cp:revision>2</cp:revision>
  <dc:subject/>
  <dc:title/>
</cp:coreProperties>
</file>